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33.wmf" ContentType="image/x-wmf"/>
  <Override PartName="/ppt/media/image10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.png" ContentType="image/png"/>
  <Override PartName="/ppt/media/image31.wmf" ContentType="image/x-wmf"/>
  <Override PartName="/ppt/media/image43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EEAA-4299-4786-9D12-182B7E88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8DDF-53DB-4923-ABB3-23EBF78E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046B-9ECD-439E-82C2-EC7FE362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4696-6890-42EB-90E0-CB632216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5018-4AE4-4B82-B2BC-91FBAF6F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EBC-98CB-4D85-8EC1-7C2E6009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67A9-0F53-43AD-A5B6-246D7A71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189-57DE-46CA-9B64-041B2C95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D3C0-9936-4079-9AE0-59F0348F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57E-6177-474C-8FA0-CF3605C7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75F-10D1-49E8-843C-62D6B4DE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913D-2E46-49D4-A8BB-ACA296A6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209C-C61D-48FC-86F6-8DF33E687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6.wm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5.wm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4.wmf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3.wmf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628560" y="673200"/>
            <a:ext cx="7201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Times New Roman"/>
              </a:rPr>
              <a:t>Trig Function  Differen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700280"/>
            <a:ext cx="36734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99"/>
                </a:solidFill>
                <a:latin typeface="Times New Roman"/>
              </a:rPr>
              <a:t>The Derivatives of sin x &amp; cos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2"/>
          <p:cNvGraphicFramePr/>
          <p:nvPr/>
        </p:nvGraphicFramePr>
        <p:xfrm>
          <a:off x="1835280" y="3357720"/>
          <a:ext cx="582768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3357720"/>
                    <a:ext cx="5827680" cy="81432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55308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C131-4443-4DED-A5E4-1F59EB745FA5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riday, 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2381400" cy="35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Times New Roman"/>
              </a:rPr>
              <a:t>The derivative of sin </a:t>
            </a:r>
            <a:r>
              <a:rPr b="1" i="1" lang="en-US" sz="1800" spc="-1" strike="noStrike">
                <a:solidFill>
                  <a:srgbClr val="cc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381400" cy="35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Times New Roman"/>
              </a:rPr>
              <a:t>The derivative of sin </a:t>
            </a:r>
            <a:r>
              <a:rPr b="1" i="1" lang="en-US" sz="1800" spc="-1" strike="noStrike">
                <a:solidFill>
                  <a:srgbClr val="cc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ShockwaveFlash1"/>
          <p:cNvGraphicFramePr/>
          <p:nvPr/>
        </p:nvGraphicFramePr>
        <p:xfrm>
          <a:off x="324000" y="907920"/>
          <a:ext cx="8635680" cy="507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907920"/>
                    <a:ext cx="86356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24000" y="907920"/>
            <a:ext cx="8635680" cy="5079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55308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7964-0B4D-4147-AB9D-2D5C84EA8BBE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riday, 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ShockwaveFlash1"/>
          <p:cNvGraphicFramePr/>
          <p:nvPr/>
        </p:nvGraphicFramePr>
        <p:xfrm>
          <a:off x="324000" y="907920"/>
          <a:ext cx="8635680" cy="507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907920"/>
                    <a:ext cx="86356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24000" y="907920"/>
            <a:ext cx="8635680" cy="5079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2771640" cy="43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Times New Roman"/>
              </a:rPr>
              <a:t>The derivative of cos </a:t>
            </a:r>
            <a:r>
              <a:rPr b="1" i="1" lang="en-GB" sz="2000" spc="-1" strike="noStrike">
                <a:solidFill>
                  <a:srgbClr val="cc00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55308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F1E3-1328-442E-BA75-CD38CB148397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riday, 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1476360" y="692280"/>
            <a:ext cx="6153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The Chain Rule for Differenti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1280" y="1700280"/>
            <a:ext cx="82058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differentiate composite functions                       (such as functions with brackets in them)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11"/>
          <p:cNvGraphicFramePr/>
          <p:nvPr/>
        </p:nvGraphicFramePr>
        <p:xfrm>
          <a:off x="3340080" y="2795760"/>
          <a:ext cx="2263680" cy="84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0080" y="2795760"/>
                    <a:ext cx="2263680" cy="8492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3" name="Text Box 10"/>
          <p:cNvSpPr/>
          <p:nvPr/>
        </p:nvSpPr>
        <p:spPr>
          <a:xfrm>
            <a:off x="1044720" y="3824280"/>
            <a:ext cx="15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2581200" y="3903840"/>
          <a:ext cx="303552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1200" y="3903840"/>
                    <a:ext cx="3035520" cy="3427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6" name="Object 3"/>
          <p:cNvGraphicFramePr/>
          <p:nvPr/>
        </p:nvGraphicFramePr>
        <p:xfrm>
          <a:off x="1087560" y="4608360"/>
          <a:ext cx="1930320" cy="343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87560" y="4608360"/>
                    <a:ext cx="1930320" cy="3430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8" name="Object 4"/>
          <p:cNvGraphicFramePr/>
          <p:nvPr/>
        </p:nvGraphicFramePr>
        <p:xfrm>
          <a:off x="4616280" y="4586400"/>
          <a:ext cx="1524240" cy="342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16280" y="4586400"/>
                    <a:ext cx="1524240" cy="3427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Object 5"/>
          <p:cNvGraphicFramePr/>
          <p:nvPr/>
        </p:nvGraphicFramePr>
        <p:xfrm>
          <a:off x="4616280" y="5203800"/>
          <a:ext cx="1168560" cy="609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16280" y="5203800"/>
                    <a:ext cx="116856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Object 6"/>
          <p:cNvGraphicFramePr/>
          <p:nvPr/>
        </p:nvGraphicFramePr>
        <p:xfrm>
          <a:off x="1087560" y="5154480"/>
          <a:ext cx="1066680" cy="609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87560" y="5154480"/>
                    <a:ext cx="1066680" cy="6098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4" name="Object 7"/>
          <p:cNvGraphicFramePr/>
          <p:nvPr/>
        </p:nvGraphicFramePr>
        <p:xfrm>
          <a:off x="1087560" y="5965920"/>
          <a:ext cx="1815840" cy="609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5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87560" y="5965920"/>
                    <a:ext cx="181584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6" name="Object 8"/>
          <p:cNvGraphicFramePr/>
          <p:nvPr/>
        </p:nvGraphicFramePr>
        <p:xfrm>
          <a:off x="2992320" y="6089760"/>
          <a:ext cx="1443240" cy="325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7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992320" y="6089760"/>
                    <a:ext cx="1443240" cy="3254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8" name="Object 9"/>
          <p:cNvGraphicFramePr/>
          <p:nvPr/>
        </p:nvGraphicFramePr>
        <p:xfrm>
          <a:off x="4616280" y="6086520"/>
          <a:ext cx="1765440" cy="342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9" name="Object 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616280" y="6086520"/>
                    <a:ext cx="1765440" cy="3427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0" name="Object 10"/>
          <p:cNvGraphicFramePr/>
          <p:nvPr/>
        </p:nvGraphicFramePr>
        <p:xfrm>
          <a:off x="6738840" y="5986440"/>
          <a:ext cx="2019240" cy="6094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91" name="Object 10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738840" y="5986440"/>
                    <a:ext cx="2019240" cy="6094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771480" y="515880"/>
            <a:ext cx="6786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The Chain Rule for Differentiating</a:t>
            </a:r>
            <a:br>
              <a:rPr sz="2800"/>
            </a:b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Trig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861840" y="1895400"/>
            <a:ext cx="7782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Comic Sans MS"/>
              </a:rPr>
              <a:t>Trig functions can be differentiated                   using the same chain rule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0"/>
          <p:cNvGraphicFramePr/>
          <p:nvPr/>
        </p:nvGraphicFramePr>
        <p:xfrm>
          <a:off x="3948120" y="3000240"/>
          <a:ext cx="1625760" cy="6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48120" y="3000240"/>
                    <a:ext cx="1625760" cy="6098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9" name="Text Box 9"/>
          <p:cNvSpPr/>
          <p:nvPr/>
        </p:nvSpPr>
        <p:spPr>
          <a:xfrm>
            <a:off x="1138320" y="3819600"/>
            <a:ext cx="28112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Comic Sans MS"/>
              </a:rPr>
              <a:t>Worked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2"/>
          <p:cNvGraphicFramePr/>
          <p:nvPr/>
        </p:nvGraphicFramePr>
        <p:xfrm>
          <a:off x="4064040" y="3951360"/>
          <a:ext cx="2768400" cy="30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4040" y="3951360"/>
                    <a:ext cx="2768400" cy="3045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2" name="Object 3"/>
          <p:cNvGraphicFramePr/>
          <p:nvPr/>
        </p:nvGraphicFramePr>
        <p:xfrm>
          <a:off x="1247760" y="4527720"/>
          <a:ext cx="1434960" cy="253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47760" y="4527720"/>
                    <a:ext cx="1434960" cy="253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4" name="Object 4"/>
          <p:cNvGraphicFramePr/>
          <p:nvPr/>
        </p:nvGraphicFramePr>
        <p:xfrm>
          <a:off x="4516560" y="4535640"/>
          <a:ext cx="1841400" cy="304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16560" y="4535640"/>
                    <a:ext cx="1841400" cy="3045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6" name="Object 5"/>
          <p:cNvGraphicFramePr/>
          <p:nvPr/>
        </p:nvGraphicFramePr>
        <p:xfrm>
          <a:off x="1247760" y="4973760"/>
          <a:ext cx="939960" cy="609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47760" y="4973760"/>
                    <a:ext cx="93996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8" name="Object 6"/>
          <p:cNvGraphicFramePr/>
          <p:nvPr/>
        </p:nvGraphicFramePr>
        <p:xfrm>
          <a:off x="4516560" y="4973760"/>
          <a:ext cx="130788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16560" y="4973760"/>
                    <a:ext cx="130788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0" name="Object 7"/>
          <p:cNvGraphicFramePr/>
          <p:nvPr/>
        </p:nvGraphicFramePr>
        <p:xfrm>
          <a:off x="1247760" y="5896080"/>
          <a:ext cx="1816200" cy="609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1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247760" y="5896080"/>
                    <a:ext cx="181620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Object 8"/>
          <p:cNvGraphicFramePr/>
          <p:nvPr/>
        </p:nvGraphicFramePr>
        <p:xfrm>
          <a:off x="3257640" y="6060960"/>
          <a:ext cx="1295280" cy="241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3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257640" y="6060960"/>
                    <a:ext cx="1295280" cy="2415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9"/>
          <p:cNvGraphicFramePr/>
          <p:nvPr/>
        </p:nvGraphicFramePr>
        <p:xfrm>
          <a:off x="4719600" y="5894280"/>
          <a:ext cx="1752480" cy="609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5" name="Object 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719600" y="5894280"/>
                    <a:ext cx="1752480" cy="6098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-42840" y="642960"/>
            <a:ext cx="8569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The Chain Rule for Differenti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00280" y="1347840"/>
            <a:ext cx="19443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Comic Sans MS"/>
              </a:rPr>
              <a:t>Exampl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2709720" y="2127240"/>
          <a:ext cx="3975120" cy="8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9720" y="2127240"/>
                    <a:ext cx="3975120" cy="8002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4" name="Object 3"/>
          <p:cNvGraphicFramePr/>
          <p:nvPr/>
        </p:nvGraphicFramePr>
        <p:xfrm>
          <a:off x="1049400" y="3327480"/>
          <a:ext cx="193032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9400" y="3327480"/>
                    <a:ext cx="1930320" cy="3427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6" name="Object 4"/>
          <p:cNvGraphicFramePr/>
          <p:nvPr/>
        </p:nvGraphicFramePr>
        <p:xfrm>
          <a:off x="5465880" y="3284640"/>
          <a:ext cx="214632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65880" y="3284640"/>
                    <a:ext cx="2146320" cy="3427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8" name="Object 5"/>
          <p:cNvGraphicFramePr/>
          <p:nvPr/>
        </p:nvGraphicFramePr>
        <p:xfrm>
          <a:off x="5465880" y="3876840"/>
          <a:ext cx="1523880" cy="609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65880" y="3876840"/>
                    <a:ext cx="152388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0" name="Object 6"/>
          <p:cNvGraphicFramePr/>
          <p:nvPr/>
        </p:nvGraphicFramePr>
        <p:xfrm>
          <a:off x="1049400" y="3905280"/>
          <a:ext cx="1066680" cy="609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49400" y="3905280"/>
                    <a:ext cx="106668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2" name="Object 7"/>
          <p:cNvGraphicFramePr/>
          <p:nvPr/>
        </p:nvGraphicFramePr>
        <p:xfrm>
          <a:off x="3124080" y="5072040"/>
          <a:ext cx="1992600" cy="352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24080" y="5072040"/>
                    <a:ext cx="1992600" cy="3524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4" name="Object 8"/>
          <p:cNvGraphicFramePr/>
          <p:nvPr/>
        </p:nvGraphicFramePr>
        <p:xfrm>
          <a:off x="5465880" y="5076720"/>
          <a:ext cx="2273040" cy="343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5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65880" y="5076720"/>
                    <a:ext cx="2273040" cy="3430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6" name="Object 9"/>
          <p:cNvGraphicFramePr/>
          <p:nvPr/>
        </p:nvGraphicFramePr>
        <p:xfrm>
          <a:off x="3486240" y="5781600"/>
          <a:ext cx="2036520" cy="9050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7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486240" y="5781600"/>
                    <a:ext cx="2036520" cy="9050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8" name="Object 10"/>
          <p:cNvGraphicFramePr/>
          <p:nvPr/>
        </p:nvGraphicFramePr>
        <p:xfrm>
          <a:off x="1049400" y="4943520"/>
          <a:ext cx="1816200" cy="609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39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049400" y="4943520"/>
                    <a:ext cx="181620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0" y="1341360"/>
            <a:ext cx="19447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imes New Roman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2"/>
          <p:cNvGraphicFramePr/>
          <p:nvPr/>
        </p:nvGraphicFramePr>
        <p:xfrm>
          <a:off x="2843280" y="1773360"/>
          <a:ext cx="3378240" cy="66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1773360"/>
                    <a:ext cx="3378240" cy="6602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1471680" y="3174840"/>
          <a:ext cx="19177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1680" y="3174840"/>
                    <a:ext cx="1917720" cy="3049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9" name="Object 4"/>
          <p:cNvGraphicFramePr/>
          <p:nvPr/>
        </p:nvGraphicFramePr>
        <p:xfrm>
          <a:off x="6089760" y="3067200"/>
          <a:ext cx="1739880" cy="52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89760" y="3067200"/>
                    <a:ext cx="1739880" cy="5205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1" name="Object 5"/>
          <p:cNvGraphicFramePr/>
          <p:nvPr/>
        </p:nvGraphicFramePr>
        <p:xfrm>
          <a:off x="1471680" y="4011480"/>
          <a:ext cx="723960" cy="609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71680" y="4011480"/>
                    <a:ext cx="723960" cy="6098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3" name="Object 6"/>
          <p:cNvGraphicFramePr/>
          <p:nvPr/>
        </p:nvGraphicFramePr>
        <p:xfrm>
          <a:off x="6089760" y="3986280"/>
          <a:ext cx="1523880" cy="660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89760" y="3986280"/>
                    <a:ext cx="1523880" cy="6602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5" name="Object 7"/>
          <p:cNvGraphicFramePr/>
          <p:nvPr/>
        </p:nvGraphicFramePr>
        <p:xfrm>
          <a:off x="1471680" y="5056200"/>
          <a:ext cx="181620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6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71680" y="5056200"/>
                    <a:ext cx="181620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7" name="Object 8"/>
          <p:cNvGraphicFramePr/>
          <p:nvPr/>
        </p:nvGraphicFramePr>
        <p:xfrm>
          <a:off x="3851280" y="5030640"/>
          <a:ext cx="1523880" cy="660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8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851280" y="5030640"/>
                    <a:ext cx="1523880" cy="6606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9" name="Object 9"/>
          <p:cNvGraphicFramePr/>
          <p:nvPr/>
        </p:nvGraphicFramePr>
        <p:xfrm>
          <a:off x="6089760" y="5126040"/>
          <a:ext cx="977760" cy="469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60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089760" y="5126040"/>
                    <a:ext cx="977760" cy="469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1" name="Object 10"/>
          <p:cNvGraphicFramePr/>
          <p:nvPr/>
        </p:nvGraphicFramePr>
        <p:xfrm>
          <a:off x="3405240" y="5938920"/>
          <a:ext cx="2095560" cy="838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2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405240" y="5938920"/>
                    <a:ext cx="2095560" cy="8380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3" name="Text Box 4"/>
          <p:cNvSpPr/>
          <p:nvPr/>
        </p:nvSpPr>
        <p:spPr>
          <a:xfrm>
            <a:off x="250920" y="620640"/>
            <a:ext cx="8569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The Chain Rule for Differenti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20000" y="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A425-7CF7-4183-974D-10CA7539E19D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riday, 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0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1773360"/>
            <a:ext cx="8424720" cy="3566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13  Ex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for Tomo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74D4-41A9-4407-A9E1-9B5A6676EB2A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riday, 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0464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23:13Z</dcterms:created>
  <dc:creator>Caroline</dc:creator>
  <dc:description/>
  <dc:language>en-US</dc:language>
  <cp:lastModifiedBy>Caroline</cp:lastModifiedBy>
  <dcterms:modified xsi:type="dcterms:W3CDTF">2009-03-18T23:30:26Z</dcterms:modified>
  <cp:revision>44</cp:revision>
  <dc:subject/>
  <dc:title>Slide 1</dc:title>
</cp:coreProperties>
</file>